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B64-4947-486E-AD64-7E2E831F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1CD2-F3FE-40A3-B23E-C9EBC9F8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DAF-B769-48DC-8B85-E0733BB7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E90-C6A7-4A66-9136-444D794F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AE6-C706-4025-82DD-C848D7CC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788-7776-41E5-9C50-AAE98F33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036-177B-41F5-992C-DD979558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8815-FE54-47B3-9607-0DE51B53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214C-06A1-4D68-9C29-65303510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973B-BAED-4F2C-A81C-0A3274D7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02D-5836-4E53-BA00-5A1ADA3A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B46-9351-47EE-8B8D-A13EFE4A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6C7C-101A-455E-8AE0-6252BFA7AD06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1. október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568520" cy="1512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3280" y="5072040"/>
            <a:ext cx="81374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Hazai Tudományos Diákköri műhelyek 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rendezvényeik támogatása” című NTP-HHTDK-20-0044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755640" y="439560"/>
            <a:ext cx="2016000" cy="1089360"/>
          </a:xfrm>
          <a:prstGeom prst="rect">
            <a:avLst/>
          </a:prstGeom>
          <a:ln w="0">
            <a:noFill/>
          </a:ln>
        </p:spPr>
      </p:pic>
      <p:pic>
        <p:nvPicPr>
          <p:cNvPr id="47" name="Kép 9" descr="http://www.emet.gov.hu/_userfiles/hirek/NTP/emmi_logo.png"/>
          <p:cNvPicPr/>
          <p:nvPr/>
        </p:nvPicPr>
        <p:blipFill>
          <a:blip r:embed="rId3"/>
          <a:stretch/>
        </p:blipFill>
        <p:spPr>
          <a:xfrm>
            <a:off x="4140360" y="439560"/>
            <a:ext cx="1439640" cy="1089360"/>
          </a:xfrm>
          <a:prstGeom prst="rect">
            <a:avLst/>
          </a:prstGeom>
          <a:ln w="0">
            <a:noFill/>
          </a:ln>
        </p:spPr>
      </p:pic>
      <p:pic>
        <p:nvPicPr>
          <p:cNvPr id="48" name="Kép 10" descr="http://www.emet.gov.hu/_userfiles/hirek/NTP/ntp_72_rgb.jpg"/>
          <p:cNvPicPr/>
          <p:nvPr/>
        </p:nvPicPr>
        <p:blipFill>
          <a:blip r:embed="rId4"/>
          <a:stretch/>
        </p:blipFill>
        <p:spPr>
          <a:xfrm>
            <a:off x="60336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Kép 11" descr="http://www.emet.gov.hu/_userfiles/hatter_1/emet_logok/%C3%BAj%20logo/emet_logo_szines.jpg"/>
          <p:cNvPicPr/>
          <p:nvPr/>
        </p:nvPicPr>
        <p:blipFill>
          <a:blip r:embed="rId5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1-10-19T12:33:52Z</dcterms:modified>
  <cp:revision>11</cp:revision>
  <dc:subject/>
  <dc:title>DUNÁNTÚLI MANDULAFA</dc:title>
</cp:coreProperties>
</file>